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3F06-3458-4C88-B576-563300F34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BE53-3700-4F84-BE35-73FC61FA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FECF-B58E-4FC4-9EE7-4BBB2F452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82BD-1B8E-4502-AED4-7C2A250FE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4327-656B-4A7A-BA9F-B4FA0083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F6B3-30FA-4DD6-858D-791B4F7B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75F0-9567-41A0-A06E-1FFFE672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1A3F-3C34-41CE-88A3-C8E23928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7100-EA50-4EAC-95DD-E706AFCF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D3F0-FA49-4720-82D5-31E798D7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4E57-31C3-47EA-B7F6-36A05D9D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F3D8-6720-4C78-BAF5-7551A43F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00FE-3E2D-4C04-B3C9-829B2D03B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La clase de espa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6520" y="5981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By: Na’shyia &amp; Lesli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162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Los Pasatiem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 gusta jugar basketb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 papa juega basketb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 gusta eschucar mus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 mama no le gu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952880" y="990720"/>
            <a:ext cx="2895840" cy="285120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5638680" y="4038480"/>
            <a:ext cx="2762280" cy="2467080"/>
            <a:chOff x="5638680" y="4038480"/>
            <a:chExt cx="2762280" cy="2467080"/>
          </a:xfrm>
        </p:grpSpPr>
        <p:sp>
          <p:nvSpPr>
            <p:cNvPr id="48" name="Film"/>
            <p:cNvSpPr/>
            <p:nvPr/>
          </p:nvSpPr>
          <p:spPr>
            <a:xfrm>
              <a:off x="5638680" y="4667040"/>
              <a:ext cx="1152360" cy="183852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Sound"/>
            <p:cNvSpPr/>
            <p:nvPr/>
          </p:nvSpPr>
          <p:spPr>
            <a:xfrm>
              <a:off x="6305400" y="4038480"/>
              <a:ext cx="1600200" cy="121932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Photo"/>
            <p:cNvSpPr/>
            <p:nvPr/>
          </p:nvSpPr>
          <p:spPr>
            <a:xfrm>
              <a:off x="6914880" y="4762440"/>
              <a:ext cx="1486080" cy="110484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Music"/>
            <p:cNvSpPr/>
            <p:nvPr/>
          </p:nvSpPr>
          <p:spPr>
            <a:xfrm>
              <a:off x="7086600" y="5410080"/>
              <a:ext cx="1218960" cy="106668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La cap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hington D.C es el capital de Estados Son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leigh es la capital de Norte de Carol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24280" y="129528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Los Col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color es Amarill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 color faborito es azul es muy bon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1295280"/>
            <a:ext cx="4273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El tiempo que 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2743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e mucho ca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 qusta er a la playa en este tiem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495680" y="1523880"/>
            <a:ext cx="434340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8:25:09Z</dcterms:created>
  <dc:creator>WSFCS Workstation</dc:creator>
  <dc:description/>
  <dc:language>en-US</dc:language>
  <cp:lastModifiedBy>WSFCS Workstation</cp:lastModifiedBy>
  <dcterms:modified xsi:type="dcterms:W3CDTF">2010-04-26T18:56:12Z</dcterms:modified>
  <cp:revision>3</cp:revision>
  <dc:subject/>
  <dc:title>La clase de espanol</dc:title>
</cp:coreProperties>
</file>